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3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59CC4-3582-4051-A6D8-980F1797BD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CC0-0986-4F71-85B2-68B2F50D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53F-520E-4B32-9293-84BBB7CB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EAD-7D46-453D-A5C6-1A2C1539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15D-01BF-457B-A658-9AFB2D00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888-D32C-4CEC-AAA9-9BEF41C8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69C-2655-4821-9376-5DFC1156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5F3-827E-4E85-9A0A-C6640643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E82-A87E-43C1-BD6D-0D030937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-3412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6BD-32FF-4FB4-84A9-DC9AC804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389-F0DD-473F-A58F-235E0F43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EF6-A660-4F92-AAEB-EE7B08B4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107-16F0-46F8-8D46-F7CA0B9C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2796F-2623-4922-B046-71275608418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2" name=""/>
          <p:cNvSpPr txBox="1"/>
          <p:nvPr/>
        </p:nvSpPr>
        <p:spPr>
          <a:xfrm>
            <a:off x="1444680" y="-936720"/>
            <a:ext cx="6659640" cy="3543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ArchDownPour">
              <a:avLst>
                <a:gd name="adj1" fmla="val 480000"/>
                <a:gd name="adj2" fmla="val 4197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A sogra e a nora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NORA E A SOG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mulher casada, que tinha sogra,estava muito mal com ela, e uma á outra se tinham má vont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79640" y="1260360"/>
            <a:ext cx="4140360" cy="234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3280" y="301680"/>
            <a:ext cx="906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ertaram de mandar a esta mulher certas cousas de doce, entre as quais vinha uma mulher, feita espé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39280" y="6892920"/>
            <a:ext cx="4587840" cy="444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94000" y="5040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3280" y="345960"/>
            <a:ext cx="906948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disse quem as trazia, que aquela era a figura de sua sog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19640" y="1079640"/>
            <a:ext cx="3751200" cy="1590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3280" y="345960"/>
            <a:ext cx="906948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la partiu uma migalha, que meteu na boca, e  tornando-a a cuspir, disse: Basta que é sogra, que até de açúcar amar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3280" y="345960"/>
            <a:ext cx="906948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NORA E A SOG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901520"/>
            <a:ext cx="90694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